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4D6-F840-4246-85E6-9D2F5606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913-E46E-4ABA-A1DF-CEE90607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247-9628-4C78-A17C-C843AD9A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068-FD55-48B6-A1D4-C177CA74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64FB-582F-442A-96E4-481E2FDD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279E-A5ED-407A-8989-2CFA60E0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4C4-2EBD-4DEC-981E-6C700224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FD4E-0B59-4B0B-B8B9-AC48CCFD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1715-BE7C-407A-92F2-3F9399A1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16D8-1757-4CD5-8FEA-4538D883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3909-3029-45CE-A596-056C79F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B3B-8660-4DCE-9777-F1F7171A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5BA0-9202-458A-9411-6628CCF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D76A-07B3-4AC4-BCD6-9EBB04D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6C2-6BF4-4351-9694-F883B59C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D83D-E95D-4DE1-8475-63656A07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F607-F963-4357-85CA-2F1FA1AF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21B-0003-4775-A8D5-B8C8891F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78B-8AB4-4B58-9735-9F4A15B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C55-6261-4B0E-A749-F5D52484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713-4FBA-4AB2-8861-CC140E84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8F2-2F91-415E-B9A2-71E5D0DD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881-96BD-4EF0-99CF-55BB9BF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CA0-3359-407D-8197-24509EAD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3FFB-7F51-4044-BF8A-45B4E9AA65B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B9C4-CC4E-43C4-AA65-7AA6FAD0791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pacificsciencecenter.org/Education/Resource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8948880" cy="251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572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acific Science Center inspires a lifelong interest in science, math and technology by engaging diverse communities through interactive and innovative exhibits and programs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78920" cy="1268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Pacific Science Center has exhibits and activities for students of all ages (k-12). Whether your field trip is an introduction to concepts, or a culmination of a curriculum unit, PSC’s exhibits and school programs include inquiry based learning opportunities that engage students and encourage them to discover and explore the world around them!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Pacific Science Center offers a special program providing FREE bus transportation for school and community groups. To register your school  or community group, call (206) 443-2925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619840" cy="126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ww.pacificsciencecenter.org/Education/Resourc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or educational resources for teachers, including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formational article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cience activiti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-visit workshee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hibit guid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mp-In is a private, after hours experience where you can explore everything Pacific Science Center has to offer, including a hands-on science workshop, live stage show and planetarium show presented by Pacific Science Center's enthusiastic, knowledgeable and entertaining education staf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st: $50 per pers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mes: 5:30pm to 9:30p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o: Families, schools, youth group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gister online or contact: (206) 443-292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4:22:26Z</dcterms:created>
  <dc:creator>Information Technology</dc:creator>
  <dc:description/>
  <dc:language>en-US</dc:language>
  <cp:lastModifiedBy>Information Technology</cp:lastModifiedBy>
  <dcterms:modified xsi:type="dcterms:W3CDTF">2012-03-05T04:53:15Z</dcterms:modified>
  <cp:revision>4</cp:revision>
  <dc:subject/>
  <dc:title>Pacific Science center By: Andrew (AK47) Kreiter and Alex (AC-Slater) Craighead</dc:title>
</cp:coreProperties>
</file>